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png" ContentType="image/png"/>
  <Override PartName="/ppt/media/image24.png" ContentType="image/png"/>
  <Override PartName="/ppt/media/image11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33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4.gif" ContentType="image/gif"/>
  <Override PartName="/ppt/media/image17.png" ContentType="image/png"/>
  <Override PartName="/ppt/media/image16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460-5BF8-4884-86DF-C4D4BE17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89F-C74C-4FA8-8AB8-3AAB07E5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091-47A7-43DE-8CC8-C3C43A4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AF2-9D67-4B94-84A7-7D85A4EA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324-179B-4967-8A21-F20092B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3A4-22C3-4925-B549-5D22B9D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40F-1F1E-48DB-AE8A-3EFA5582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162-22E5-4D16-8FB5-55EA9409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110-3DC5-4D69-A32D-F209BF1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A1E-2CFF-4D03-A27D-2ADD1C0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B47-9408-4124-AD97-C15278A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3C0-FE5F-4CB2-809F-FF65DEB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515-2B73-430D-BE07-1E682BB7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oundtrack - Madagascar - I Like to Move it.mp3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robe-motion-ta-08"/>
          <p:cNvPicPr/>
          <p:nvPr/>
        </p:nvPicPr>
        <p:blipFill>
          <a:blip r:embed="rId2"/>
          <a:stretch/>
        </p:blipFill>
        <p:spPr>
          <a:xfrm>
            <a:off x="914400" y="457200"/>
            <a:ext cx="702324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NIMATION-DancingGrandpa"/>
          <p:cNvPicPr/>
          <p:nvPr/>
        </p:nvPicPr>
        <p:blipFill>
          <a:blip r:embed="rId3"/>
          <a:stretch/>
        </p:blipFill>
        <p:spPr>
          <a:xfrm>
            <a:off x="1523880" y="3505320"/>
            <a:ext cx="1714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32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overconfidence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3"/>
          <p:cNvSpPr/>
          <p:nvPr/>
        </p:nvSpPr>
        <p:spPr>
          <a:xfrm>
            <a:off x="6324480" y="4724280"/>
            <a:ext cx="2286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ypes of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when the speed of an object does not change.  The graph is always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describes the speed of motion when speed is changing; graph is a jagge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a speed in a given direction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ed 10m/sec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Velocity 10m/sec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62120" y="4724280"/>
            <a:ext cx="22096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0" descr="constant speed"/>
          <p:cNvPicPr/>
          <p:nvPr/>
        </p:nvPicPr>
        <p:blipFill>
          <a:blip r:embed="rId1"/>
          <a:stretch/>
        </p:blipFill>
        <p:spPr>
          <a:xfrm>
            <a:off x="762120" y="4952880"/>
            <a:ext cx="2138400" cy="162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3048120" y="5410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2" descr="windspeedg"/>
          <p:cNvPicPr/>
          <p:nvPr/>
        </p:nvPicPr>
        <p:blipFill>
          <a:blip r:embed="rId2"/>
          <a:stretch/>
        </p:blipFill>
        <p:spPr>
          <a:xfrm>
            <a:off x="6324480" y="4648320"/>
            <a:ext cx="2286000" cy="1476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5089680" y="54212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you use this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he_Physics_of_Skateboards.asf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56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y is Velocity important to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l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velocity-SEFG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bining Velo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downstream  1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+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upstream           1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--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rowing upstream"/>
          <p:cNvPicPr/>
          <p:nvPr/>
        </p:nvPicPr>
        <p:blipFill>
          <a:blip r:embed="rId1"/>
          <a:stretch/>
        </p:blipFill>
        <p:spPr>
          <a:xfrm>
            <a:off x="6248520" y="4267080"/>
            <a:ext cx="2762280" cy="184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owing"/>
          <p:cNvPicPr/>
          <p:nvPr/>
        </p:nvPicPr>
        <p:blipFill>
          <a:blip r:embed="rId2"/>
          <a:stretch/>
        </p:blipFill>
        <p:spPr>
          <a:xfrm>
            <a:off x="6705720" y="1295280"/>
            <a:ext cx="193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eamwork"/>
          <p:cNvPicPr/>
          <p:nvPr/>
        </p:nvPicPr>
        <p:blipFill>
          <a:blip r:embed="rId1"/>
          <a:stretch/>
        </p:blipFill>
        <p:spPr>
          <a:xfrm>
            <a:off x="1676520" y="1295280"/>
            <a:ext cx="57196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peed__Velocity__Acceleration__and_Deceleration.asf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576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800" y="73332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rate of change in velocity; an object accelerates if its speed, direction or both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velocity  -  origin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 car is traveling at 60 km/hr.  It accelerates to 85 km/hr in 5 hrs.  What is the rate of accel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(final) – V(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5 – 6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5 km/hr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the acceleration is negative than the object is decelerating (slowing d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ccelertion"/>
          <p:cNvPicPr/>
          <p:nvPr/>
        </p:nvPicPr>
        <p:blipFill>
          <a:blip r:embed="rId1"/>
          <a:stretch/>
        </p:blipFill>
        <p:spPr>
          <a:xfrm>
            <a:off x="6172200" y="137160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ng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acceleration graph"/>
          <p:cNvPicPr/>
          <p:nvPr/>
        </p:nvPicPr>
        <p:blipFill>
          <a:blip r:embed="rId1"/>
          <a:stretch/>
        </p:blipFill>
        <p:spPr>
          <a:xfrm>
            <a:off x="533520" y="1905120"/>
            <a:ext cx="35082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ecel graph"/>
          <p:cNvPicPr/>
          <p:nvPr/>
        </p:nvPicPr>
        <p:blipFill>
          <a:blip r:embed="rId2"/>
          <a:stretch/>
        </p:blipFill>
        <p:spPr>
          <a:xfrm>
            <a:off x="5105520" y="3657600"/>
            <a:ext cx="3611520" cy="2536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204200" y="420696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547600" y="298764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alculating_Average_Speed.as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7999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rocrastination"/>
          <p:cNvPicPr/>
          <p:nvPr/>
        </p:nvPicPr>
        <p:blipFill>
          <a:blip r:embed="rId1"/>
          <a:stretch/>
        </p:blipFill>
        <p:spPr>
          <a:xfrm>
            <a:off x="1295280" y="1295280"/>
            <a:ext cx="65484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implicity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tion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depends on the mass and velocity with which it is trav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What is the momentum of a 5 kg blue-jay flying at 10 m/s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5 kg x 1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 50 kg/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loop"/>
          <p:cNvPicPr/>
          <p:nvPr/>
        </p:nvPicPr>
        <p:blipFill>
          <a:blip r:embed="rId1"/>
          <a:stretch/>
        </p:blipFill>
        <p:spPr>
          <a:xfrm>
            <a:off x="6095880" y="4038480"/>
            <a:ext cx="2855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fer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ill Nye the Science Guy - A Transfer of Momentum.WMV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88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47920" y="1447920"/>
            <a:ext cx="59436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us_momentum"/>
          <p:cNvPicPr/>
          <p:nvPr/>
        </p:nvPicPr>
        <p:blipFill>
          <a:blip r:embed="rId1"/>
          <a:stretch/>
        </p:blipFill>
        <p:spPr>
          <a:xfrm>
            <a:off x="1905120" y="1523880"/>
            <a:ext cx="495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pic failure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can you use all this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video.WMV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77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it!  Before you go…one mo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mile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pplying physic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mazing Physics.WMV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7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o you KNOW something 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me of refe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background or object used for comparison.  All movement is described relative to a frame of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 a train takes off with you in it.  To the people watching on the ground, it is the Earth.  To you, it is the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comm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ame of reference is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arthAS17"/>
          <p:cNvPicPr/>
          <p:nvPr/>
        </p:nvPicPr>
        <p:blipFill>
          <a:blip r:embed="rId1"/>
          <a:stretch/>
        </p:blipFill>
        <p:spPr>
          <a:xfrm>
            <a:off x="6019920" y="2362320"/>
            <a:ext cx="27111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the frame of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emonshot-1"/>
          <p:cNvPicPr/>
          <p:nvPr/>
        </p:nvPicPr>
        <p:blipFill>
          <a:blip r:embed="rId1"/>
          <a:stretch/>
        </p:blipFill>
        <p:spPr>
          <a:xfrm>
            <a:off x="152280" y="1165320"/>
            <a:ext cx="1957680" cy="12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emonshot-2"/>
          <p:cNvPicPr/>
          <p:nvPr/>
        </p:nvPicPr>
        <p:blipFill>
          <a:blip r:embed="rId2"/>
          <a:stretch/>
        </p:blipFill>
        <p:spPr>
          <a:xfrm>
            <a:off x="1828800" y="2306520"/>
            <a:ext cx="1984320" cy="125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emonshot-3"/>
          <p:cNvPicPr/>
          <p:nvPr/>
        </p:nvPicPr>
        <p:blipFill>
          <a:blip r:embed="rId3"/>
          <a:stretch/>
        </p:blipFill>
        <p:spPr>
          <a:xfrm>
            <a:off x="3733920" y="3344760"/>
            <a:ext cx="191448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emonshot-4"/>
          <p:cNvPicPr/>
          <p:nvPr/>
        </p:nvPicPr>
        <p:blipFill>
          <a:blip r:embed="rId4"/>
          <a:stretch/>
        </p:blipFill>
        <p:spPr>
          <a:xfrm>
            <a:off x="5562720" y="4440240"/>
            <a:ext cx="1990440" cy="12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emonshot-5"/>
          <p:cNvPicPr/>
          <p:nvPr/>
        </p:nvPicPr>
        <p:blipFill>
          <a:blip r:embed="rId5"/>
          <a:stretch/>
        </p:blipFill>
        <p:spPr>
          <a:xfrm>
            <a:off x="7162920" y="5484960"/>
            <a:ext cx="198108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2760" y="4648320"/>
            <a:ext cx="39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llet go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e le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unique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a change in position in a certain amoun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the rate at which an object mo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= Distance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m/sec or km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animated-quartic"/>
          <p:cNvPicPr/>
          <p:nvPr/>
        </p:nvPicPr>
        <p:blipFill>
          <a:blip r:embed="rId1"/>
          <a:stretch/>
        </p:blipFill>
        <p:spPr>
          <a:xfrm>
            <a:off x="6019920" y="16002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ich animal is the fas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_Speed_Limit__Introducing_the_Cheetah.asf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856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447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348840" y="1600200"/>
            <a:ext cx="976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what speed did a plane fly if it trave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 m in 5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 what speed did a boy run if he went 2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0 m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t what speed did a bird fly if he w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ree to another (35 m) in 7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8:24Z</dcterms:created>
  <dc:creator> </dc:creator>
  <dc:description/>
  <dc:language>en-US</dc:language>
  <cp:lastModifiedBy>Kimberly K. Piper</cp:lastModifiedBy>
  <dcterms:modified xsi:type="dcterms:W3CDTF">2015-11-23T22:26:38Z</dcterms:modified>
  <cp:revision>25</cp:revision>
  <dc:subject/>
  <dc:title>Motion</dc:title>
</cp:coreProperties>
</file>